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132-468F-4003-9A90-8761B323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860-D5E8-4D92-AD6F-E5CC80A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284-B94E-483C-8984-EA7425AC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F01-FE00-4AB6-BC92-34C6FB04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270-0C5C-424B-8A35-5FB76005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ADE-65FC-41AB-AF5C-BB63FA5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AE5-18ED-46D7-ABD6-7642979D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042-8465-44FF-A6F1-187C51D8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757-D89D-447D-9EF3-154E1C9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C2C-224D-4B77-9C34-F6173B74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47F-54C3-44B4-842B-35D45A0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773-991C-42D1-8D02-02370783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79A5-0329-4A7F-82A6-9F3E43084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gency FB"/>
              </a:rPr>
              <a:t>Ancient Greec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yslynn Brea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ity state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6" descr="PHILOSOPHY.jpg"/>
          <p:cNvPicPr/>
          <p:nvPr/>
        </p:nvPicPr>
        <p:blipFill>
          <a:blip r:embed="rId1"/>
          <a:stretch/>
        </p:blipFill>
        <p:spPr>
          <a:xfrm>
            <a:off x="1523880" y="2057400"/>
            <a:ext cx="6553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3" descr="peninsula.jpg"/>
          <p:cNvPicPr/>
          <p:nvPr/>
        </p:nvPicPr>
        <p:blipFill>
          <a:blip r:embed="rId1"/>
          <a:srcRect l="3196" t="3273" r="4261" b="4909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between Athens and Spart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warr!!!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kind of government that is run by a small group of peo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oligaarchy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harbor!!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cropolis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re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assembly.jpg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iteze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olony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democrac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their own decisions in court of law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jury.jpg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monarchy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7T20:33:49Z</dcterms:modified>
  <cp:revision>107</cp:revision>
  <dc:subject/>
  <dc:title>Ancient Greece</dc:title>
</cp:coreProperties>
</file>